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158893"/>
        <c:axId val="41871599"/>
      </c:barChart>
      <c:catAx>
        <c:axId val="421588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71599"/>
        <c:crosses val="autoZero"/>
        <c:auto val="1"/>
        <c:lblAlgn val="ctr"/>
        <c:lblOffset val="100"/>
        <c:noMultiLvlLbl val="0"/>
      </c:catAx>
      <c:valAx>
        <c:axId val="418715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588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954E-E722-400D-87C6-ADAB6D57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2410-01A1-4788-A792-29B82C33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416A-AE9B-4B6A-ABC9-AF006AB5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1D0A-0448-44BC-B21D-29950116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F716-09B1-4089-856E-E2A44C03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B7BA-787D-4C16-886A-39E30186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81EE-016C-4618-ADF8-6D2387BA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48FE-BC15-427B-8B12-8FCFEC3F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0226-CD6C-44CB-88B3-56A21EE1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907E-823D-448E-B3E1-A148D09E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0AAA-6F31-4BFF-AD62-A5170766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4B27-F14E-481B-A81A-1D666090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F5487-AD4C-446C-9C16-8D2AC9B532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